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1DA-BEA4-4F73-B157-83CDC62B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171-698E-4DE1-ACFF-E1B35392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E54-FAB5-4162-A6DB-F9D9AB85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023-BFCC-45FC-AE47-D7666C39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B93-DBF5-4621-850D-CE7A0D7C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A19-2B01-46F8-85C1-856175B5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10C-F8C4-4543-9A13-1FBE827A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285-598F-4681-B85F-B39BF61D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ED7-79B7-41CB-B96F-CB6CFCC6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3DC-2A5E-44E4-98D5-011229A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A07-9D03-4244-847C-8BA42074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704-2868-42A6-8CA9-7255EDFD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EDF0-E788-4BA1-8624-445DF81F54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s vo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, e, i, o, u, a, e, i, o, u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'm' con la 'a' dice 'ma'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'm' con la 'e' dice 'me'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La 'm' con la 'i' dice 'mi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'm' con la 'o' dice 'mo'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'm' con la 'u' se dice 'mu'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odos juntos dicen ma, me, mi, mo, m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"If You're Happy and you Know it Clap your Hands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, e, i, o, u, a, e, i, o, 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o do syllables: (whatever consonant you want to use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'm' con la 'a' dice 'ma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'm' con la 'e' dice 'me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a 'm' con la 'i' dice 'mi' (it picks up at the beginning of the tune again here and continues to the end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'm' con la 'o' dice 'mo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'm' con la 'u' se dice 'mu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odos juntos dicen ma, me, mi, mo, m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j0213485"/>
          <p:cNvPicPr/>
          <p:nvPr/>
        </p:nvPicPr>
        <p:blipFill>
          <a:blip r:embed="rId1"/>
          <a:stretch/>
        </p:blipFill>
        <p:spPr>
          <a:xfrm>
            <a:off x="428760" y="357120"/>
            <a:ext cx="24264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0:54:07Z</dcterms:created>
  <dc:creator>Teacher</dc:creator>
  <dc:description/>
  <dc:language>en-US</dc:language>
  <cp:lastModifiedBy>Teacher</cp:lastModifiedBy>
  <dcterms:modified xsi:type="dcterms:W3CDTF">2010-02-19T20:58:07Z</dcterms:modified>
  <cp:revision>1</cp:revision>
  <dc:subject/>
  <dc:title>Las vocales</dc:title>
</cp:coreProperties>
</file>